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6180713" cy="511206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8E1-0409-4D50-B3C4-4DF2C112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505-B1DE-43B1-BE04-7EEEFFDB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96F-84AF-4B6A-AB39-0AECF055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03848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89000" y="1360800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03848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589000" y="30549960"/>
            <a:ext cx="1004796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078-4E15-4D1F-A521-6225AA0A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963"/>
              </a:spcBef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2BB-F1E4-4AC3-9B54-0FAC9AB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F4D-3C6A-4504-B8C4-2B853FD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017-DEEC-44CD-B067-EA04F1FE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F25-7A6A-4C7A-993C-ED2328B6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0" y="2720520"/>
            <a:ext cx="31205520" cy="458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963"/>
              </a:spcBef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EBB-DDDC-42A5-94DD-7A63EAD9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E2A-AE02-4959-A6FE-6607E950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477360" y="3054996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7FA-2822-4D75-BA4E-F3258F13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477360" y="13608000"/>
            <a:ext cx="1522800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0" y="30549960"/>
            <a:ext cx="31205520" cy="154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963"/>
              </a:spcBef>
              <a:buNone/>
              <a:tabLst>
                <a:tab algn="l" pos="3618000"/>
                <a:tab algn="l" pos="7236000"/>
                <a:tab algn="l" pos="108536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6D8-4E0F-4209-8EB2-48F1682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2720520"/>
            <a:ext cx="31205520" cy="9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618000"/>
                <a:tab algn="l" pos="7236000"/>
                <a:tab algn="l" pos="10853640"/>
              </a:tabLst>
            </a:pPr>
            <a:r>
              <a:rPr b="0" lang="en-US" sz="17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7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7600" y="13608000"/>
            <a:ext cx="31205520" cy="324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712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452124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633096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8140680" indent="-903240">
              <a:lnSpc>
                <a:spcPct val="90000"/>
              </a:lnSpc>
              <a:spcBef>
                <a:spcPts val="3963"/>
              </a:spcBef>
              <a:buClr>
                <a:srgbClr val="000000"/>
              </a:buClr>
              <a:buFont typeface="Arial"/>
              <a:buChar char="•"/>
              <a:tabLst>
                <a:tab algn="l" pos="3618000"/>
                <a:tab algn="l" pos="7236000"/>
                <a:tab algn="l" pos="108536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8724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85480" y="47380680"/>
            <a:ext cx="1220976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552080" y="47380680"/>
            <a:ext cx="81406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4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0B341-0143-48CC-B9CA-6504CB43DEBA}" type="slidenum">
              <a:rPr b="0" lang="ru-RU" sz="4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80920" y="706320"/>
            <a:ext cx="3575052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предоставления мер государственной поддер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становлением правительства Воронежской области от 09.02.2021 № 57 «Об утверждении Порядка предоставления субсидий из бюджета Воронежской области на осуществление компенсации предприятиям хлебопекарной промышленности части затрат на реализацию произведенных и реализованных хлеба и хлебобулочных издел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учение субсидий имеют организации и индивидуальные предприниматели, осуществляющие первичную и (или) последующую (промышленную) переработку сельскохозяйственной продукции, а именно организации и индивидуальные предприниматели, занимающиеся производством хлеба и хлебобулочных изделий недлительного хранения (со сроком годности менее 5 суток) (код вида экономической деятельности в соответствии с Общероссийским классификатором видов экономической деятельности (ОК 029-2014 (КДЕС Ред. 2)) - 10.71.1), поставленные на учет в налоговых органах Воронежской области, осуществляющие деятельность на территории Воронежской области и соответствующие требованиям, установленным пунктом 5 Порядка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3559320" y="6354720"/>
            <a:ext cx="2648412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департаментом аграрной политики Воронежской области объявления о проведении отбора на  Едином портале бюджетной системы Российской Федерации в информационно-телекоммуникационной сети «Интернет», а также в информационной системе «Портал Воронежской области в сети Интернет» на странице Департа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3975120" y="9461520"/>
            <a:ext cx="26484120" cy="25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участником отбора в Департамент в срок, установленный Департаментом в объявлении о проведении отбора, заявки на участие в отборе по форме согласно приложению № 1 к Порядку с приложением документов, указанных 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е 14 Порядка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отбора вправе в любое время отозвать поданную заявку, внести изменения в поданную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6"/>
          <p:cNvSpPr/>
          <p:nvPr/>
        </p:nvSpPr>
        <p:spPr>
          <a:xfrm>
            <a:off x="11155320" y="12492000"/>
            <a:ext cx="14238360" cy="18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явки Департ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8"/>
          <p:cNvSpPr/>
          <p:nvPr/>
        </p:nvSpPr>
        <p:spPr>
          <a:xfrm>
            <a:off x="11155320" y="14803560"/>
            <a:ext cx="1423836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инятии заявки к рассмотрению либо об отклонении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5"/>
          <p:cNvSpPr/>
          <p:nvPr/>
        </p:nvSpPr>
        <p:spPr>
          <a:xfrm>
            <a:off x="1830240" y="18469080"/>
            <a:ext cx="902844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явки к рассмотр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6"/>
          <p:cNvSpPr/>
          <p:nvPr/>
        </p:nvSpPr>
        <p:spPr>
          <a:xfrm>
            <a:off x="26681040" y="18562680"/>
            <a:ext cx="7902720" cy="984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лонения заявки участника отбора на стадии рассмотрения и оценки заявок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участника отбора требованиям, установленным в пункте 5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заявок и документов требованиям к заявкам участников отбора, установленным в объявлении о проведении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оверность представленной участником отбора информации, в том числе информации о месте нахождения и адресе юридического л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ача участником отбора заявки после даты, определенной для подачи 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8"/>
          <p:cNvSpPr/>
          <p:nvPr/>
        </p:nvSpPr>
        <p:spPr>
          <a:xfrm>
            <a:off x="14190840" y="18300600"/>
            <a:ext cx="7902360" cy="440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зультатах рассмотрения заявок на Едином портале, а также в информационной системе «Портал Воронежской области в сети Интернет» на странице Департа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принятия решения по результатам рассмотрения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925640" y="21891600"/>
            <a:ext cx="9028080" cy="288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Департаментом решения о предоставлении субсидии либо об отказе в ее предост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, не превышающий 10 рабочих дней с даты регистрации заяв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11736360" y="25071480"/>
            <a:ext cx="10074240" cy="1045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предоставлении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ми для отказа участнику отбора в предоставлении субсид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соответствие представленных участником отбора документов требованиям, определенным в соответствии с пунктом 9 Порядка, или непредставление (представление не в полном объеме) указанных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ие факта недостоверности представленной участником от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ыполнение целей и условий предоставления субсидий, установленных Поряд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аз получателя субсидии от заключения Согла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лонение получателя субсидии от заключения Соглашения в сроки, установленные пунктом 23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лимитов бюджетных обязательств на предоставление субсид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1725200" y="36434880"/>
            <a:ext cx="9918720" cy="33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уведомление участника отбора об отказе в предоставлении субсидии с указанием причины принятия соответствующе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12840" y="29548080"/>
            <a:ext cx="7380360" cy="288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участника отбора в реестр получателей субсидии на оплату из бюджета Воронеж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субсидии рассчитывается в соответствии с пунктом 20 Поря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152800" y="26411400"/>
            <a:ext cx="7380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е участника отбора о принятом решен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5 дней со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ре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1868400" y="33169320"/>
            <a:ext cx="7400880" cy="356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оглашения о предоставлении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течение 10 рабочих дней с даты принятия решения о предоставлении субсидии) либо отказ участника отбора от заключения Согл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1932120" y="37441080"/>
            <a:ext cx="7380000" cy="238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субс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позднее 10-го рабочего дня, следующего за днем принятия решения о предоставлении субсид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6"/>
          <p:cNvSpPr/>
          <p:nvPr/>
        </p:nvSpPr>
        <p:spPr>
          <a:xfrm>
            <a:off x="1962000" y="40495680"/>
            <a:ext cx="738036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лучателем субсидии отчета о достижении результатов предоставления субси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ок до 10 февраля года, следующего за годом получения субсид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: вправо 17"/>
          <p:cNvSpPr/>
          <p:nvPr/>
        </p:nvSpPr>
        <p:spPr>
          <a:xfrm>
            <a:off x="9310680" y="34971120"/>
            <a:ext cx="946080" cy="136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: вниз 20"/>
          <p:cNvSpPr/>
          <p:nvPr/>
        </p:nvSpPr>
        <p:spPr>
          <a:xfrm>
            <a:off x="18127800" y="8794800"/>
            <a:ext cx="46080" cy="66672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2"/>
          <p:cNvSpPr/>
          <p:nvPr/>
        </p:nvSpPr>
        <p:spPr>
          <a:xfrm>
            <a:off x="18108720" y="12015720"/>
            <a:ext cx="46080" cy="4874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: вниз 23"/>
          <p:cNvSpPr/>
          <p:nvPr/>
        </p:nvSpPr>
        <p:spPr>
          <a:xfrm>
            <a:off x="18016560" y="14385960"/>
            <a:ext cx="44280" cy="414360"/>
          </a:xfrm>
          <a:prstGeom prst="downArrow">
            <a:avLst>
              <a:gd name="adj1" fmla="val 50000"/>
              <a:gd name="adj2" fmla="val 50211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: вниз 27"/>
          <p:cNvSpPr/>
          <p:nvPr/>
        </p:nvSpPr>
        <p:spPr>
          <a:xfrm>
            <a:off x="6105600" y="20966040"/>
            <a:ext cx="46080" cy="925560"/>
          </a:xfrm>
          <a:prstGeom prst="downArrow">
            <a:avLst>
              <a:gd name="adj1" fmla="val 50000"/>
              <a:gd name="adj2" fmla="val 4993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: вниз 32"/>
          <p:cNvSpPr/>
          <p:nvPr/>
        </p:nvSpPr>
        <p:spPr>
          <a:xfrm flipH="1">
            <a:off x="16605360" y="35509320"/>
            <a:ext cx="108000" cy="927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: вниз 34"/>
          <p:cNvSpPr/>
          <p:nvPr/>
        </p:nvSpPr>
        <p:spPr>
          <a:xfrm>
            <a:off x="5925960" y="32457960"/>
            <a:ext cx="44640" cy="725400"/>
          </a:xfrm>
          <a:prstGeom prst="downArrow">
            <a:avLst>
              <a:gd name="adj1" fmla="val 50000"/>
              <a:gd name="adj2" fmla="val 4980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низ 37"/>
          <p:cNvSpPr/>
          <p:nvPr/>
        </p:nvSpPr>
        <p:spPr>
          <a:xfrm>
            <a:off x="5989680" y="39811320"/>
            <a:ext cx="44280" cy="652320"/>
          </a:xfrm>
          <a:prstGeom prst="downArrow">
            <a:avLst>
              <a:gd name="adj1" fmla="val 50000"/>
              <a:gd name="adj2" fmla="val 5019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: вниз 44"/>
          <p:cNvSpPr/>
          <p:nvPr/>
        </p:nvSpPr>
        <p:spPr>
          <a:xfrm>
            <a:off x="6000840" y="24711120"/>
            <a:ext cx="46080" cy="168912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: вправо 51"/>
          <p:cNvSpPr/>
          <p:nvPr/>
        </p:nvSpPr>
        <p:spPr>
          <a:xfrm>
            <a:off x="10958400" y="2344572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: вниз 52"/>
          <p:cNvSpPr/>
          <p:nvPr/>
        </p:nvSpPr>
        <p:spPr>
          <a:xfrm>
            <a:off x="18029160" y="17267400"/>
            <a:ext cx="46080" cy="100152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: вниз 54"/>
          <p:cNvSpPr/>
          <p:nvPr/>
        </p:nvSpPr>
        <p:spPr>
          <a:xfrm>
            <a:off x="30586320" y="1691784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: вниз 18"/>
          <p:cNvSpPr/>
          <p:nvPr/>
        </p:nvSpPr>
        <p:spPr>
          <a:xfrm flipH="1">
            <a:off x="6012000" y="28905120"/>
            <a:ext cx="46080" cy="5954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: вниз 21"/>
          <p:cNvSpPr/>
          <p:nvPr/>
        </p:nvSpPr>
        <p:spPr>
          <a:xfrm rot="10800000">
            <a:off x="10186920" y="29501640"/>
            <a:ext cx="90720" cy="54752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: вправо 24"/>
          <p:cNvSpPr/>
          <p:nvPr/>
        </p:nvSpPr>
        <p:spPr>
          <a:xfrm>
            <a:off x="10256760" y="29406960"/>
            <a:ext cx="1527120" cy="125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: вниз 25"/>
          <p:cNvSpPr/>
          <p:nvPr/>
        </p:nvSpPr>
        <p:spPr>
          <a:xfrm>
            <a:off x="5923080" y="36739440"/>
            <a:ext cx="68040" cy="66996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: вправо 51"/>
          <p:cNvSpPr/>
          <p:nvPr/>
        </p:nvSpPr>
        <p:spPr>
          <a:xfrm>
            <a:off x="25468200" y="1691316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: вниз 54"/>
          <p:cNvSpPr/>
          <p:nvPr/>
        </p:nvSpPr>
        <p:spPr>
          <a:xfrm>
            <a:off x="6049800" y="1688148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: вниз 54"/>
          <p:cNvSpPr/>
          <p:nvPr/>
        </p:nvSpPr>
        <p:spPr>
          <a:xfrm>
            <a:off x="18083160" y="4714920"/>
            <a:ext cx="46080" cy="159840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: вправо 51"/>
          <p:cNvSpPr/>
          <p:nvPr/>
        </p:nvSpPr>
        <p:spPr>
          <a:xfrm>
            <a:off x="6122880" y="16892640"/>
            <a:ext cx="5105520" cy="46080"/>
          </a:xfrm>
          <a:prstGeom prst="rightArrow">
            <a:avLst>
              <a:gd name="adj1" fmla="val 50000"/>
              <a:gd name="adj2" fmla="val 49756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: вниз 54"/>
          <p:cNvSpPr/>
          <p:nvPr/>
        </p:nvSpPr>
        <p:spPr>
          <a:xfrm>
            <a:off x="16038360" y="23461560"/>
            <a:ext cx="46080" cy="159876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2106720" y="8386920"/>
            <a:ext cx="32195880" cy="1153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Требования к участникам отбора, которым должен соответствовать участник отбора на дату подачи заявки на участие в отбо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частник отбора понес затраты в текущем году на реализацию произведенных и реализованных хлеба и хлебобулочных издел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частник отбора принял обязательство о неповышении в месяц получения компенсации цены на хлеб и хлебобулочные изделия по отношению к средней цене, сложившейся у предприятия в месяце, предшествующем месяцу получения компенс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 участника отбора должна отсутствовать неисполненная обязанность по уплате налогов, сборов, страховых взносов, пеней, штрафов, процентов, подлежащих уплате в соответствии с законодательством Российской Федерации о налогах и сбо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 участника отбора должна отсутствовать просроченная задолженность по возврату в бюджет Воронежской области субсидий, бюджетных инвестиций, предоставленных в том числе в соответствии с иными правовыми актами, а также иная просроченная (неурегулированная) задолженность по денежным обязательствам перед Воронежской обла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частники отбора - юридические лица не должны находиться в процессе реорганизации (за исключением реорганизации в форме присоединения к юридическому лицу, являющемуся участником отбора, другого юридического лица), ликвидации, в отношении них не введена процедура банкротства, деятельность участника отбора не приостановлена в порядке, предусмотренном законодательством Российской Федерации, а участники отбора - индивидуальные предприниматели не должны прекратить деятельность в качестве индивидуального предприним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 реестре дисквалифицированных лиц отсутствуют сведения о дисквалифицированных руководителе, членах коллегиального исполнительного органа, лице, исполняющем функции единоличного исполнительного органа, ил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участник отбора не должен являться иностранным юридическим лицом, а также российским юридическим лицом, в уставном (складочном) капитале которого доля участия иностранных юридических лиц, местом регистрации которых являются государство или территория, включенные в утвержденный Министерством финансов Российской Федерации перечень государств и территорий, предоставляющих льготный налоговый режим налогообложения и (или) не предусматривающих раскрытия и предоставления информации при проведении финансовых операций (офшорные зоны), в совокупности превышает 50 проц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астник отбора не получает средства из бюджета Воронежской области на основании иных нормативных правовых актов Воронежской области на цели, установленные пунктом 3 По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участник отбора имеет в наличии мощности для производства хлеба и хлебобулочных издел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2138400" y="3414600"/>
            <a:ext cx="321958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редоставления субсидий является возмещение предприятиям хлебопекарной промышленности части затрат на реализацию произведенных и реализованных хлеба и хлебобулочных изделий (без учета налога на добавленную стоимость) в рамках реализац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, утвержденной постановлением правительства Воронежской области от 13.12.2013 № 1088 «Об утверждении государственной программы Воронежской области «Развитие сельского хозяйства, производства пищевых продуктов и инфраструктуры агропродовольственного ры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157480" y="20913840"/>
            <a:ext cx="32195880" cy="1294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 Участник отбора одновременно с представлением заявки представляет в Департамент следующие докум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равку-расчет размера субсидии по форме согласно приложению № 2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ведения о производстве, отгрузке продукции и балансе производственных мощностей по форме федерального статистического наблюдения № 1-натура-БМ, утвержденной Приказом Федеральной службы государственной статистики от 24.07.2020 № 411 «Об утверждении форм федерального статистического наблюдения для организации федерального статистического наблюдения за деятельностью предприятий», за год, предшествующий году подачи заявк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правку о наличии мощностей для производства хлеба и хлебобулочных изделий по форме согласно приложению № 3 к Порядку за год, предшествующий году подачи заявки (для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ведения за месяц, указанный в справке-расчете размера субсидии, о производстве и отгрузке товаров и услуг по форме федерального статистического наблюдения № П-1, утвержденной приказом Федеральной службы государственной статистики, действующей в месяце, указанном в справке-расчете размера субсидии (кроме субъектов малого предприниматель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ведения о производстве и реализации хлеба и хлебобулочных изделий по форме согласно приложению № 4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ведения о понесенных затратах на реализацию произведенных и реализованных хлеба и хлебобулочных изделий по форме согласно приложению № 5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сведения об отпускной цене на реализуемые хлеб и хлебобулочные изделия по форме согласно приложению № 6 к Поряд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ведения о руководителе, членах коллегиального исполнительного органа, лице, исполняющем функции единоличного исполнительного органа, и главном бухгалтере участника отбора, являющегося юридическим лицом, об индивидуальном предпринимателе, являющемся участником отб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отчетность о финансово-экономическом состоянии получателей субсидий за год, предшествующий году получения субсидий, по форме, утвержденной Департаментом (за исключением получателей субсидий, поставленных на учет в налоговых органах и начавших свою производственную деятельность в отчетном финансовому году или году получения субсидии), в случае отсутствия отчетности в Департаме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, указанных в пункте 14 Порядка, заверяются участником отбора либо уполномоченным должностным лицом и скрепляются печатью (при наличии). В случае если документы заверены уполномоченным лицом, предоставляются доверенность и ее копия или иной документ, подтверждающий полномочия уполномоченного лица на заверение документов, указанных в пункте 14 По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апрашивает самостоятельно в установленном порядке посредством межведомственного запроса,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, справку налогового органа об отсутствии у получателя субсидии просроченной задолженности по налоговым и иным обязательным платежам, выписку из Единого государственного реестра юридических лиц или Единого государственного реестра индивидуальных предприним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0T14:20:26Z</dcterms:created>
  <dc:creator>Светличный Максим Владимирович</dc:creator>
  <dc:description/>
  <dc:language>en-US</dc:language>
  <cp:lastModifiedBy>tunina_i</cp:lastModifiedBy>
  <cp:lastPrinted>2021-08-11T09:50:44Z</cp:lastPrinted>
  <dcterms:modified xsi:type="dcterms:W3CDTF">2021-09-27T10:38:33Z</dcterms:modified>
  <cp:revision>93</cp:revision>
  <dc:subject/>
  <dc:title>Презентация PowerPoint</dc:title>
</cp:coreProperties>
</file>