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214-9E13-48BE-A44B-EC538467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43E-3BBA-4DB8-8E2C-70BC6EE3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F1B-44A0-47C2-942D-C42C2EF0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53B-927D-4BF1-8645-7A7F1CFB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5E4-3AFF-4D57-981F-DACD2D5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5CE-A0BF-4B14-808B-0E9389AF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701-CD6A-4AF1-9435-548B5584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38A-2D80-424B-B007-921B8BAB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87A-DA91-426A-AEA1-2DCF1992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BC7-047F-41E5-88B0-0974F12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D4A-40AB-4239-8C81-B25AE9AF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9D7-063C-43BF-85DD-0791F91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6ECB8-594D-43DF-91BA-2B3D8E4F2D23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30.04.2021 № 256 «Об утверждении Порядка предоставления субсидий из бюджета Воронежской области на возмещение производителям масла подсолнечного и (или) производителям сахара белого части затрат на производство и реализацию рафинированного бутилированного масла подсолнечного и (или) сахара белого в организации розничной торговли в 2021 го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масла подсолнечного и (или) сахара белого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после окончания срока приема доку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5 декабря текущего год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33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на производство и реализацию масла подсолнечного и (или) сахара белого, реализованных в организации розничной торговли в период с 1 апреля 2021 года по 30 сентября 2021 года включите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реализовал масло подсолнечное в организации розничной торговли по цене, не превышающей 95 рублей за 1 литр (включая налог на добавленную стоимость) на условиях FCA (передача на складе грузоотправителя с погрузкой на транспортное средство грузополучателя), и (или) на условиях EXW (передача на складе грузоотправителя), и (или) на иных условиях поставки за вычетом дополнительных расходов на доставку, и (или) сахар белый по цене, не превышающей 36 рублей за 1 килограмм (включая налог на добавленную стоимость) на условиях FCA (передача на складе грузоотправителя с погрузкой на транспортное средство грузополучателя), и (или) на условиях EXW (передача на складе грузоотправителя), и (или) на иных условиях поставки за вычетом дополнительных расходов на фасовку и достав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е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должен получать средства из бюджета Воронежской области на основании иных нормативных правовых актов Воронежской области на цели, установленные пунктом 3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2604960"/>
            <a:ext cx="32195880" cy="476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оизводителям масла подсолнечного и (или) производителям сахара белого части затрат без учета налога на добавленную стоимость, связанных с производством и реализацией масла подсолнечного и (или) сахара белого в организации розничной торговли, по ставке на 1 литр произведенного и реализованного масла подсолнечного по цене, не превышающей 95 рублей за 1 литр, включая налог на добавленную стоимость, и (или) на 1 килограмм сахара белого по цене, не превышающей 36 рублей за 1 килограмм, включая налог на добавленную стоимость, в рамках реализац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797120" y="22410720"/>
            <a:ext cx="32195880" cy="1172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окументы, подтверждающие факт реализации в организации розничной торгов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говоров реализации масла подсолнечного и (или) сахара белого, заключенных с организациями розничной торгов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естр накладных или универсальных передаточных документов, подтверждающих факт реализации масла подсолнечного и (или) сахара белого в организации розничной торговли за месяц, указанный в справке-расчете по форме согласно приложению № 3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тчетность о финансово-экономическом состоянии участника отбора за год, предшествующий году получения субсидий, по форме, утвержденной Департаментом (за исключением участника отбора, поставленного на учет в налоговых органах и начавшего свою производственную деятельность в отчетном финансовому году или году получения субсидии), в случае отсутствия отчетности в Департамен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согласие на обработку персональных данных (для физического лиц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(или)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40:10Z</dcterms:modified>
  <cp:revision>112</cp:revision>
  <dc:subject/>
  <dc:title>Презентация PowerPoint</dc:title>
</cp:coreProperties>
</file>